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082-FD94-4463-82A6-73A426C63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677-1809-4F82-953E-878E5DCF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B5D5-2236-475F-8200-FF4D6242E5C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s leaders can encourage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parent education meeting will vary depending on its leade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in many families, parents are not the only family members involved in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5BDE-01B0-4DF0-89C8-B20CF8B1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Education Program planning should begin with a needs assessment to determine their needs and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AA29-224E-4DF9-A3AA-CAFC956B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507-1EA6-475E-A7A4-A2EA3C71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F59-9652-40F6-8476-2C7C551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CA5-A0D6-4747-9D1C-3B4DEB0C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E3E-DCB4-411E-9522-FF4601F2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E06-7D3C-47D2-A4EF-E4F6247D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E600-F607-4D87-BD0F-4FFBB44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E95E-87EF-4CC9-BF0B-21FFBF6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F15C-2D1A-4055-A35A-9F0B930A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8ED4-EEE4-4538-A941-97FDC8F0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123-2713-4AA5-9A31-72B3366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906-385D-4CCA-869A-A1FAD592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2A1-902D-4CE6-98D8-5AFD8AB1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478F-39A8-4934-8570-168CA10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37BA-7BC6-4373-BD68-A9DFDAA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14A4-0B99-484F-8B7B-C8C36DB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6E0-0FE7-4314-9C0A-2950BDDC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93E-3CCE-4803-9429-F851C477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AD3-0BB3-47E7-85F8-2CC1BA03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516-C9B0-47B3-BB9A-5094048D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459-D370-415E-8099-1D50CA4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278-635C-4770-9ED9-5EBB4A38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915-3D22-4AE8-B985-6252535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1A7-7A4A-40EC-8C50-A77AFA4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C74-8D84-4D98-9C41-6952CA9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8AB7-25AD-4B20-88C1-5142398D4B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FDF-7CC7-42E8-BA51-C685C3CB38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222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llaborative Leadership: Working with Par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733920"/>
            <a:ext cx="6032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. Kristen Pennycuff T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Establishing a Positive Atmosp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120" y="1600200"/>
            <a:ext cx="8193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Icebreakers can create a warm and accepting atmosphere conducive to particip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105520" y="2743200"/>
            <a:ext cx="350496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After se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yad 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I’ve Got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685800" y="2743200"/>
            <a:ext cx="41911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As group is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ignature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Bingo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crambled Nam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Ro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523880"/>
            <a:ext cx="819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R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: the behavior characteristic of a person occupying a particular position in the social system, influences actions of other person and expectations of others toward that pers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Understanding group roles prior to meeting can help members not fall into dysfunctional ro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ders can help alter member roles during a meeting to encourage effective particip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181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Role Descri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1523880"/>
            <a:ext cx="819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Task Oriented Ro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- initiate and keep the group discussion meaningful and ong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Initiator-leader, Facilitator, Information giver, Information seeker, Clarifier, Orientator, Questioner, Asserter, Energizer, Elaborator, Opinion giver, Opinion seeker, summariz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Group-Building and Maintenance Role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evelop and maintain the existence and quality of the gro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Encourager, Harmonizer, Listener, Follower, Tension Beaker, Compromiser, Standard setter, Observer, Recorder, Gatekee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Dysfunctional Ro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- interfere with achieving group go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Dominator, Aggressor, Challenger, Negativist, Flirtatious, Blocker, Competitor, Recognition seeker, Deser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ductive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371240"/>
            <a:ext cx="7619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listen and pay attention to one an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discuss the subject at h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Everyone’s ideas and suggestions are welcom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Everyone has a chance to state his or her view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group uses its agenda as a guide for discu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One or two members are appointed to summarize the discussion and to see that everyone has had a chance to spea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know and use problem-solving ste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are clear about group decisions and committed to them (MSU Extension, 1999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Less-Productive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do not listen and everyone tends to talk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discussion jumps from one idea to an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Some members’ ideas don’t seem to count, so they feel that they don’t be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One or two members do all the talk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agenda is not clear, and there is no written guide for discu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No one summarizes or checks to see if everyone who wants to speak has actually spoken. Discussions go on and on until people get ti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Arrangements for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2120" y="1600200"/>
            <a:ext cx="8192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Depending on meeting type, pre-meeting arrangements, set-up, meeting procedures, and appropriate topic will v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Parent meeting types inclu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TextBox 3" descr=""/>
          <p:cNvPicPr/>
          <p:nvPr/>
        </p:nvPicPr>
        <p:blipFill>
          <a:blip r:embed="rId1"/>
          <a:stretch/>
        </p:blipFill>
        <p:spPr>
          <a:xfrm>
            <a:off x="762120" y="3475080"/>
            <a:ext cx="81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your group, create a 10 minute demonstration of a particular type of meeting arran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olve all class me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ef overview of setup and proced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priate top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Chapter Seven 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12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dership in Parent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Discu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Ro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ductive Grou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Communication and collaboration is promoted when teachers value the input of parents and families and respect their cul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-Riojas-Cortez &amp; Flores (200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18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dership in Parent Edu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990360"/>
            <a:ext cx="819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Ranges from nonprofessional with little training to trained professio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Unstructured meetings with no goals, curriculum or trained lea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led by lay leaders to get comments, solve a problem, study an issue, or become better acquain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led by lay leaders who follow a curriculum devised by profession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MS PGothic"/>
              </a:rPr>
              <a:t>Active Parenting, Parent Effectiveness Training (PET), and Systematic Training for Effective Parenting (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called by a parent or professional that involve members and respond to their concerns with professional suppo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Principal leads and involves members of committee, leads them to decision with majority vo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called and led by a professional with participation by lay me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called, led, directed, and controlled by the professional with members of the audience as observe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761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Interest find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Brainstorming se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y greatest concerns ar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y greatest happiness comes from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If I could eliminate one problem from my home it would b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s that concern me about my child’s education ar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s that concern me about my child’s development ar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As a parent, I hope to b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Open Ended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What do I want to know about my schoo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What do I want to know about my commun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What would I like to do about my school and/or commun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 Bo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Development of Objec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How Parents Learn B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Families will be more apt to be involved wh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re is a positive clim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ulture and language is resp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isk is elimin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y are possible contributions are recogn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y are involved in their own 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urriculum addresses concerns and is culturally relev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y discover need for change on their 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How Parents Learn Best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Families will be more apt to be involved wh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spect and encouragement are pres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al situations and analogie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Positive feedback is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ifferent approache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ifferent sensory approache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tinued learning beyond the personal cont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sidered part of the learning-teaching te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Discussion Format 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008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Informal Discussion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Stems from group interest/ne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Goals and objectives establish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vide for informal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Selects and analyzes relevant information discus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Outlines a plan of action, if des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Problem Solving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cognition of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Understand/Discuss nature of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Analysis of the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clusion and Summ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Appropriate 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Using 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internet allows for virtual communication among teachers, parents and student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MS PGothic"/>
              </a:rPr>
              <a:t>Benefits of some forms of virtual communication include flexible scheduling and meeting place, these can be great options for families with complex schedules or live far from schoo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MS PGothic"/>
              </a:rPr>
              <a:t>Virtual communication options include Email and Web Sit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1:47:23Z</dcterms:created>
  <dc:creator>Shane  Trent</dc:creator>
  <dc:description/>
  <dc:language>en-US</dc:language>
  <cp:lastModifiedBy>Trent Family</cp:lastModifiedBy>
  <dcterms:modified xsi:type="dcterms:W3CDTF">2011-10-19T16:02:31Z</dcterms:modified>
  <cp:revision>56</cp:revision>
  <dc:subject/>
  <dc:title>Sustaining Talk</dc:title>
</cp:coreProperties>
</file>